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184-60DF-4E3E-B7E7-7B61C3768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peaker icon is a different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E3F-325B-4F7F-9D7B-949D1214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FBD-6534-409E-83D5-ED29003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323-9DE0-4E16-B11D-49B67E9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A9E-51D8-4927-9BFF-C3BF2DC2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3C927-A262-4172-B195-C4A82D6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D1D5-C4D2-44FA-AB63-0192F3F5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A6CC-4806-4B40-B698-B56FF48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E8AEC-A6B8-4CA7-ACC8-9951ED69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0AFE-8D73-4F15-9EA3-87D4516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27CBB-60CD-4E1C-8445-61AD98DF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59A59-8C52-4D96-8B6B-38B57FF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2A8-49C9-43E8-B42D-6F5B1FBC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BA15-DDAF-4D21-9DF3-0FDA5E8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B1E7-C30A-45A4-AB76-77763F0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97AB-DEC6-4AB5-A0C5-2A921A70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CDB53-6687-4F3C-A86C-42A22B30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31A2-4A09-4667-A84B-A7BEBB6C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1DF-5783-4BA4-8373-0163B5C0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BE5-2C19-40C0-B604-D9769D2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14A-BEEF-4597-B728-31EF6CB4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D55-E0E5-44B1-9456-A8E30C8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A86-7478-4B24-BEE7-937392E5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BCA-536F-4710-AD3E-6D455EE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9FD-BE91-4FFC-A812-6EBC3D8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B2E-6E23-4301-8E23-99499E90E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CBE-AD9F-43AD-8AC7-C4BAD4324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4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ifles Soundtrack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he Icons for s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480" y="4876920"/>
            <a:ext cx="1279800" cy="115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391520" y="167652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562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35268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74320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5943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18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962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6036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1078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0057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4:55:26Z</dcterms:created>
  <dc:creator>LILLYA GLENN</dc:creator>
  <dc:description/>
  <dc:language>en-US</dc:language>
  <cp:lastModifiedBy>LILLYA GLENN</cp:lastModifiedBy>
  <dcterms:modified xsi:type="dcterms:W3CDTF">2008-04-07T16:00:49Z</dcterms:modified>
  <cp:revision>4</cp:revision>
  <dc:subject/>
  <dc:title>Trifles Soundtrack</dc:title>
</cp:coreProperties>
</file>